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BF19-8935-470C-BA4D-838243039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5D05-C5D6-446B-902E-25C84562C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285A-8130-4AD8-B7A8-BF31F92F7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10A4-BD90-459D-8C9C-F6D2D7D02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71E9-72D5-4169-9D9E-99953238A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7ED5-F936-4BE2-A209-0B39DC4FC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C19F-D8AC-4778-84A7-BF85A8E3A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9073-4FD1-49E8-92DA-146DF09FE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F345-0149-4819-90BA-DB6DF8515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B51F-87E6-44E7-97CC-D6E7F3B2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E59A-6822-4F0E-A764-6E135FE8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D10E-52EF-45B2-8DAA-B9008DF2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38CBD-1CE8-46F3-BC6D-93A8890D0E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0" y="0"/>
            <a:ext cx="34290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20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Sec. 10-6:</a:t>
            </a:r>
            <a:br>
              <a:rPr sz="4000"/>
            </a:b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Testing 2 Means Small Dependent S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33160" y="45684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pendent S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ples whose values ARE RELATED to each other.  (Before/After situa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est Statisti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3032280" y="3200400"/>
                <a:ext cx="2163600" cy="195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3733920" y="32767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95680" y="3200400"/>
            <a:ext cx="6858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76920" y="2959200"/>
            <a:ext cx="1600200" cy="317520"/>
          </a:xfrm>
          <a:custGeom>
            <a:avLst/>
            <a:gdLst/>
            <a:ahLst/>
            <a:rect l="l" t="t" r="r" b="b"/>
            <a:pathLst>
              <a:path w="1008" h="200">
                <a:moveTo>
                  <a:pt x="0" y="152"/>
                </a:moveTo>
                <a:cubicBezTo>
                  <a:pt x="228" y="76"/>
                  <a:pt x="456" y="0"/>
                  <a:pt x="624" y="8"/>
                </a:cubicBezTo>
                <a:cubicBezTo>
                  <a:pt x="792" y="16"/>
                  <a:pt x="900" y="108"/>
                  <a:pt x="1008" y="2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3200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54100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Test #2 in you graphing calcula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can obtain d and 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y using ONE-VAR-STATS in your calculato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.V.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ill obtained from Table F.  Since you dealing with ONE set of data there is only one d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62520" y="18288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18288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53352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** The key to these particular problems comes in writing the hypothe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you basically have ONE group of objects that you’re doing 2 things to, you will be comparing the numerical results to ZERO.  In other words your claims will now look like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µ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µ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&gt;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µ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≤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9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…Can you conclude that study sessions improved PSSA resul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means worst to better so a small # to a bigger #, the difference would be NEGATIVE….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µ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&lt; 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9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…..Do the “Biggest Loser’s” actually lose we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means the weights should be larger to begin with and smaller at the end….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g # - Small # = positive res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µ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&gt;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onfidence Interval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#9 in calcula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8T01:39:40Z</dcterms:created>
  <dc:creator>jgonzale</dc:creator>
  <dc:description/>
  <dc:language>en-US</dc:language>
  <cp:lastModifiedBy>jgonzale</cp:lastModifiedBy>
  <dcterms:modified xsi:type="dcterms:W3CDTF">2009-04-19T16:29:15Z</dcterms:modified>
  <cp:revision>5</cp:revision>
  <dc:subject/>
  <dc:title>Sec. 10-6: Testing 2 Means Small Dependent Samples</dc:title>
</cp:coreProperties>
</file>